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16EE-7AAB-4B09-9A28-1AFD5BCA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4133-B3F5-4444-ABDD-9C740185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3225-E26F-47C5-8795-28BCF404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6425-7AC5-42DF-83A7-9DE1ABBD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AFCE-1A1E-4AB7-924E-0FFC7D7E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EAAE-51EC-4E99-84D2-21DD9C59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5393-B139-4A8F-B4C8-26A6DC0F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89E8-8145-4533-9CD8-7419D6CB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F5B9-7F63-4D1D-8765-1561108D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532B-D44E-4859-B9EF-309294F5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4E7E-4A04-455C-9750-B0099FBE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E6B0-A301-4D38-B13D-FA3AEF42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0E1C-4E7F-4B55-9388-F133FD4B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EB3C-10F8-4B95-87F7-32819C1D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1CFF-C038-41BF-AEC5-791D34F1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4CE1-7071-4490-8F05-0EEE8CF0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A4E1-7AA6-4102-AC8B-DA336F16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31F6-7B4D-47D0-9CCA-094B1AD4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67E5-FDE6-418E-BED4-4A1F7F54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C74-F969-470B-85C1-D56C18EE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48BD-5B1E-4C95-9D87-46552710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60D7-61A2-47B2-BC32-93857A05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D53C-FCDD-4506-B072-A510FA72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9F72-6297-4DC1-B20C-5BF8C56F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F525-DF88-4BE0-9FE7-9DB2D083655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D549-3840-403D-8154-6D60AD36B8F7}" type="slidenum">
              <a:rPr b="0" lang="en-GB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Intermediate 1 &amp;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to pass your Close Reading Exa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Figurative Language – a comparison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Simile – using like/as to compar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Metaphor – a comparis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ersonification – comparison with a pers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State what 2 things are being compared – say why this is effectiv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Sounds of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Alliteration – repetition of sounds.  What effect is the writer trying to achieve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Assonance – repetition of vowel sound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Onomatopoeia – words that sound like the sounds they describe – e.g. snap, crackl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on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umorous – light hearted (telling a joke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Ironic – tongue in cheek (saying the opposite to mock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Emotive (emotional) Which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Chatty - (slang, abbreviation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ersuasive (trying to make you do or believe someth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Link ques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Say what the link is (the middle of the chain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Say what goes before the link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Say what comes after the link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All 3 will be required to get the marks – you must use your own words if you can – don’t just copy what is before and aft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re are 3 types of Ques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Understan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Analysi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Evalu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Understanding Ques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Will be marked with (U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Are the easiest ques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must use your own wor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must find information in the tex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Use your own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Summarise in your own wor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Define in your own word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List in your own word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Keep an eye on the number of marks available to help you decide how many points to mak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Use bullet points if you ca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Context shows meaning of a wor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Say what the word mea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Show how the rest of the text makes this clear.  You must quote the words that give you clu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valuation Ques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effectively has something been writte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Why is it good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must use your own opinion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Link your opinion with features of the text.  “It is effective because it uses……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Analysis Ques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Word Choi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Sentence Structu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Imagery or figurative languag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on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Link ques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Sounds of wor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ord Choi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Informal – formal - technic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Use of diale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Choice of a word over another – e.g. strolled or hurried rather than walk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ick single words – quote and analy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Sentence Struc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What type of sentence is it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(Statement, Question, Command, Exclamation, Minor Sentenc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long is the sentence and why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Word order: list, repetition, climax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1:20:10Z</dcterms:created>
  <dc:creator>Mandy Tevendale</dc:creator>
  <dc:description/>
  <dc:language>en-US</dc:language>
  <cp:lastModifiedBy>Your User Name</cp:lastModifiedBy>
  <dcterms:modified xsi:type="dcterms:W3CDTF">2011-12-01T19:40:31Z</dcterms:modified>
  <cp:revision>11</cp:revision>
  <dc:subject/>
  <dc:title>Intermediate 1 &amp; 2</dc:title>
</cp:coreProperties>
</file>